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5FF-A866-49A3-8B1A-DD101083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E62-3AAB-445E-9148-4C3F0D2C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BF4-9DA1-48EA-9EEE-A804C776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EDC-5F72-4E9F-BDDC-7E8D244A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A85-7D07-41EE-A724-C4436CE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441-6433-4043-B800-A564BDF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481-6347-456A-8294-5EBD341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47E-34B0-4585-94F8-11FEC13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1C4-A03C-4C91-B174-49FF814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2E4-7310-46AD-B6E4-25AC5660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9AD-4A2A-4DB5-B002-4A4AE51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A7A-C265-4B7C-BEC8-197603D6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154C-7377-429A-B0B9-B058E1C3D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wm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60600" y="165240"/>
            <a:ext cx="373536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LOGY RESEARCH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UB</a:t>
            </a:r>
            <a:endParaRPr b="0" lang="en-US" sz="4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logo_300_RGB.jpg"/>
          <p:cNvPicPr/>
          <p:nvPr/>
        </p:nvPicPr>
        <p:blipFill>
          <a:blip r:embed="rId6"/>
          <a:stretch/>
        </p:blipFill>
        <p:spPr>
          <a:xfrm>
            <a:off x="5810400" y="81104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thumbnail of small NSF logo in color "/>
          <p:cNvPicPr/>
          <p:nvPr/>
        </p:nvPicPr>
        <p:blipFill>
          <a:blip r:embed="rId7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520" y="1808280"/>
            <a:ext cx="340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ARE YOU  A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JUN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OR A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SENIO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080" y="1436760"/>
            <a:ext cx="3025800" cy="1447560"/>
          </a:xfrm>
          <a:prstGeom prst="cloudCallout">
            <a:avLst>
              <a:gd name="adj1" fmla="val 91657"/>
              <a:gd name="adj2" fmla="val 16337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68680" y="569268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Thursday, September 2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20 pm in Mr. DeVries’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G-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66880" y="7007400"/>
            <a:ext cx="5991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DeVries, Mrs. Pringle-Joh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. Dustin L. Weber: dlweber1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200600">
            <a:off x="916920" y="5368680"/>
            <a:ext cx="14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 Time and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163400">
            <a:off x="904680" y="5400360"/>
            <a:ext cx="1722240" cy="99216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4632480" y="1440000"/>
            <a:ext cx="1404720" cy="162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480" y="3141720"/>
            <a:ext cx="574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k between high school-college-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xplore your ow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98920" y="4827600"/>
            <a:ext cx="3911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51120" y="851544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 rot="5400000">
            <a:off x="-1803240" y="5224320"/>
            <a:ext cx="4537080" cy="40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66ff33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NORTH WEST HIGH SCHOOL</a:t>
            </a:r>
            <a:endParaRPr b="0" lang="en-US" sz="2800" spc="1" strike="noStrike">
              <a:ln w="9360">
                <a:solidFill>
                  <a:srgbClr val="66ff33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0" y="7724880"/>
            <a:ext cx="83520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Marks Lab</cp:lastModifiedBy>
  <dcterms:modified xsi:type="dcterms:W3CDTF">2006-09-22T04:33:58Z</dcterms:modified>
  <cp:revision>18</cp:revision>
  <dc:subject/>
  <dc:title>Slide 1</dc:title>
</cp:coreProperties>
</file>